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wind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B25-08E5-483D-A53F-B3105070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48D-8D19-451D-95FD-749CA655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9CC-CEBB-4B26-A6AD-736D1F68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CB6-8207-40F8-9FD5-CA8E0502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F98-C203-40A9-B320-F2C3A7B1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6699-600A-45FF-9750-7231EB76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2517-90CC-450A-A6A7-35F1124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F83-43B4-445A-B22D-1FA3251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493-EECE-43A2-9CC9-DDA5726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9A0-67D9-4D4D-A12C-BC233DB0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80B-CA03-4E74-8032-B48A8EE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CC8-E95C-4027-9FAC-493B1B85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8435-F75A-4B91-A8EF-F91C7E5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D5B-676A-4A43-854A-F12FE64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40FC-C568-4E32-897A-68F0DD1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001-B850-408C-83C1-72AE390E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1A62-465B-49F7-AF23-C8D78A11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D53-8111-44E2-831E-B276B50F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945-2A49-408E-BB11-8115FA3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7A1-C950-4840-BF65-054E7DD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B98-DD5E-426B-BD55-02D1FE9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547-9475-44F6-ADB4-850F671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2AE-691C-4403-87ED-49293D8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1F1-5469-4489-A255-C1B7E831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4DE-9979-452E-BBC0-F0F12FD791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483-E8F5-42BE-ABB8-2110DCB65BA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co-problems in your hometown/villag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412640"/>
            <a:ext cx="8258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Литовченко Светлана Петр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пект урока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глийского языка для 7 класса к УМК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lish-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авторы Кузовлев В.П. и д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WHAT ARE THE RESULTS OF OUR INFLUENCE ON THE ENVIRONMENT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4292280"/>
            <a:ext cx="93963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litter is thrown in the rivers and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a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water pollution is cause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2637000"/>
            <a:ext cx="91440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e throw litter in the rivers and seas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–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We cause water pollution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55640" y="4292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Did you like our lesso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at did you like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at have you learnt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at would you like to do next time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873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Garamond"/>
              </a:rPr>
              <a:t>Our planet is  in danger!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Garamond"/>
              </a:rPr>
              <a:t>Forests are cut d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Garamond"/>
              </a:rPr>
              <a:t>Water is poll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Garamond"/>
              </a:rPr>
              <a:t>Air  pollution is not reduc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Garamond"/>
              </a:rPr>
              <a:t>Join us and clean the Earth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j0189205"/>
          <p:cNvPicPr/>
          <p:nvPr/>
        </p:nvPicPr>
        <p:blipFill>
          <a:blip r:embed="rId1"/>
          <a:stretch/>
        </p:blipFill>
        <p:spPr>
          <a:xfrm>
            <a:off x="108000" y="584280"/>
            <a:ext cx="3143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Garamond"/>
              </a:rPr>
              <a:t>What are the main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cological problems</a:t>
            </a: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cc6600"/>
                </a:solidFill>
                <a:latin typeface="Garamond"/>
              </a:rPr>
              <a:t>of today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1916280"/>
            <a:ext cx="8655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68360" y="3284640"/>
            <a:ext cx="47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ir pollu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012000" y="6381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land pollu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59636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258920" y="6453360"/>
            <a:ext cx="43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es are cut dow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214360" cy="218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28760" y="3905280"/>
            <a:ext cx="3286080" cy="264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3643200" y="12142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"/>
          <p:cNvPicPr/>
          <p:nvPr/>
        </p:nvPicPr>
        <p:blipFill>
          <a:blip r:embed="rId4"/>
          <a:stretch/>
        </p:blipFill>
        <p:spPr>
          <a:xfrm>
            <a:off x="5357880" y="3840120"/>
            <a:ext cx="3443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3b24"/>
                </a:solidFill>
                <a:latin typeface="Times New Roman"/>
              </a:rPr>
              <a:t>Fill in active wo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1280" y="1197000"/>
            <a:ext cx="6732720" cy="103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Times New Roman"/>
              </a:rPr>
              <a:t>Cars  …    air  in  big  c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Times New Roman"/>
              </a:rPr>
              <a:t>Fish  dies  in  …  , rivers  and  s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Times New Roman"/>
              </a:rPr>
              <a:t>Animals  are  …  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Times New Roman"/>
              </a:rPr>
              <a:t>Factories  and  plants  put waste  into the …  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Times New Roman"/>
              </a:rPr>
              <a:t>Fires  …   fore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385120" cy="17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4446"/>
                </a:solidFill>
                <a:latin typeface="Trebuchet MS"/>
              </a:rPr>
              <a:t>WHAT ARE THE RESULTS OF OUR INFLUENCE ON THE ENVIRONMENT</a:t>
            </a:r>
            <a:r>
              <a:rPr b="1" lang="ru-RU" sz="3600" spc="-1" strike="noStrike">
                <a:solidFill>
                  <a:srgbClr val="9e4446"/>
                </a:solidFill>
                <a:latin typeface="Trebuchet MS"/>
              </a:rPr>
              <a:t>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973440" y="2492280"/>
            <a:ext cx="11161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2" marL="8571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66"/>
                </a:solidFill>
                <a:latin typeface="Garamond"/>
              </a:rPr>
              <a:t>  </a:t>
            </a:r>
            <a:r>
              <a:rPr b="1" lang="en-US" sz="3300" spc="-1" strike="noStrike">
                <a:solidFill>
                  <a:srgbClr val="b9efee"/>
                </a:solidFill>
                <a:latin typeface="Garamond"/>
              </a:rPr>
              <a:t>We pollute the air.</a:t>
            </a:r>
            <a:r>
              <a:rPr b="1" lang="en-US" sz="33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00ffff"/>
                </a:solidFill>
                <a:latin typeface="Garamond"/>
              </a:rPr>
              <a:t>We change the climat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8571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8571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ff66"/>
                </a:solidFill>
                <a:latin typeface="Garamond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-757080" y="4005360"/>
            <a:ext cx="1137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the air is polluted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mate is change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WHAT ARE THE RESULTS OF OUR INFLUENCE ON THE ENVIRONMENT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4221000"/>
            <a:ext cx="91440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the fire is left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orest is destroye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273480"/>
            <a:ext cx="91440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e leave a fire.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– We destroy the fores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WHAT ARE THE RESULTS OF OUR INFLUENCE ON THE ENVIRONMENT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plastic bottles are thrown away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ure is damage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273480"/>
            <a:ext cx="91440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e throw away plastic bottles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–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We damage natur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WHAT ARE THE RESULTS OF OUR INFLUENCE ON THE ENVIRONMENT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4437000"/>
            <a:ext cx="884556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litter is left in the forest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imals are hurt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273480"/>
            <a:ext cx="91440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25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e leave litter in the forests.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                                            –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We hurt animals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WHAT ARE THE RESULTS OF OUR INFLUENCE ON THE ENVIRONMENT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653000"/>
            <a:ext cx="91440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trees are broken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irds are disturbe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24648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e break trees. </a:t>
            </a:r>
            <a:r>
              <a:rPr b="1" lang="en-US" sz="3300" spc="-1" strike="noStrike">
                <a:solidFill>
                  <a:srgbClr val="00ffcc"/>
                </a:solidFill>
                <a:latin typeface="Arial"/>
              </a:rPr>
              <a:t>– We disturb birds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9:56:53Z</dcterms:created>
  <dc:creator>ххх</dc:creator>
  <dc:description/>
  <dc:language>en-US</dc:language>
  <cp:lastModifiedBy>сервер</cp:lastModifiedBy>
  <dcterms:modified xsi:type="dcterms:W3CDTF">2013-11-27T07:21:27Z</dcterms:modified>
  <cp:revision>41</cp:revision>
  <dc:subject/>
  <dc:title>    HOW DO YOU TREAT the EARTH?</dc:title>
</cp:coreProperties>
</file>